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wmf" ContentType="image/x-wmf"/>
  <Override PartName="/ppt/media/image23.png" ContentType="image/png"/>
  <Override PartName="/ppt/media/image6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33.png" ContentType="image/png"/>
  <Override PartName="/ppt/media/image13.png" ContentType="image/png"/>
  <Override PartName="/ppt/media/image9.png" ContentType="image/png"/>
  <Override PartName="/ppt/media/image28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wmf" ContentType="image/x-wmf"/>
  <Override PartName="/ppt/media/image26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32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5C19-AA9B-4971-B9D8-CEA37B645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F135-C672-47D3-8BE1-FBBCC6678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ED70-692B-4F16-A9B2-F67C4C0E2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8F75-8788-4150-BE40-6F95C3A8C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7BD3-5E3C-4CA9-BDE9-3449B50CD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758-0DBD-4B8B-B555-2CE80256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6DAA-2975-4801-B10D-5F3164FA2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691A-E62D-403A-A268-4A36C94AB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F589-F816-4693-8E81-1B1EF2BA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FFCD-D727-407C-BF9F-644D64196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7336-B748-4B9F-B265-71362E3C9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DDAC-D8CD-496F-9F74-4AE18C36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E7CA-C413-482F-803F-61E1F9A04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4DAA-8224-44FD-BAD1-96BD5824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1573-9643-4A0B-AAA8-ADD433CF8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2D4-6F8B-4BA2-90BB-EB736E0F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E87-C941-4F8B-AE07-4DBC43D4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EFD-26A7-4CE2-8B00-D127A46A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B79-93DB-4E1E-9D54-439BCC2A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444-000C-49C7-B9A6-D114218F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43E-EFD5-43A1-9916-0EBC2464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242-1DB4-44DF-8644-A50B45DA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C0FF-D64D-4796-ABEF-308D97AB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18B-EA91-42BE-A691-EC1B7E43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17F-CF8C-4845-B8C7-EA15A40F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752-138B-4CE1-BCEE-4D4AF9C3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B68-754F-431B-A9C0-6E457CB5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942C-4C64-4C66-8096-1678A0612F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8" descr=""/>
          <p:cNvPicPr/>
          <p:nvPr/>
        </p:nvPicPr>
        <p:blipFill>
          <a:blip r:embed="rId1"/>
          <a:stretch/>
        </p:blipFill>
        <p:spPr>
          <a:xfrm>
            <a:off x="1652760" y="2176560"/>
            <a:ext cx="572904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Rich\Documents\eslkidsworld.com\clip art\Food &amp; Drink\Fruits (A - B)\Apple 47.wmf"/>
          <p:cNvPicPr/>
          <p:nvPr/>
        </p:nvPicPr>
        <p:blipFill>
          <a:blip r:embed="rId2"/>
          <a:stretch/>
        </p:blipFill>
        <p:spPr>
          <a:xfrm>
            <a:off x="406440" y="339840"/>
            <a:ext cx="1879560" cy="214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Users\Rich\Documents\eslkidsworld.com\clip art\Food &amp; Drink\Fruits (A - B)\Banana 03.wmf"/>
          <p:cNvPicPr/>
          <p:nvPr/>
        </p:nvPicPr>
        <p:blipFill>
          <a:blip r:embed="rId3"/>
          <a:stretch/>
        </p:blipFill>
        <p:spPr>
          <a:xfrm rot="2044200">
            <a:off x="6262200" y="756720"/>
            <a:ext cx="241956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6880320" y="4522680"/>
            <a:ext cx="1805040" cy="203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Users\Rich\Documents\eslkidsworld.com\clip art\Food &amp; Drink\Fruits (C - I)\Grapes 19.wmf"/>
          <p:cNvPicPr/>
          <p:nvPr/>
        </p:nvPicPr>
        <p:blipFill>
          <a:blip r:embed="rId5"/>
          <a:stretch/>
        </p:blipFill>
        <p:spPr>
          <a:xfrm>
            <a:off x="174600" y="4327560"/>
            <a:ext cx="21574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9" descr=""/>
          <p:cNvPicPr/>
          <p:nvPr/>
        </p:nvPicPr>
        <p:blipFill>
          <a:blip r:embed="rId1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9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Rich\Documents\eslkidsworld.com\clip art\Food &amp; Drink\Fruits (J - Pe)\Orange 19.wmf"/>
          <p:cNvPicPr/>
          <p:nvPr/>
        </p:nvPicPr>
        <p:blipFill>
          <a:blip r:embed="rId4"/>
          <a:stretch/>
        </p:blipFill>
        <p:spPr>
          <a:xfrm>
            <a:off x="3498840" y="1609560"/>
            <a:ext cx="4754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9" descr=""/>
          <p:cNvPicPr/>
          <p:nvPr/>
        </p:nvPicPr>
        <p:blipFill>
          <a:blip r:embed="rId1"/>
          <a:stretch/>
        </p:blipFill>
        <p:spPr>
          <a:xfrm>
            <a:off x="2743200" y="4041720"/>
            <a:ext cx="5924520" cy="257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3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Rich\Documents\eslkidsworld.com\clip art\Food &amp; Drink\Fruits (J - Pe)\Peaches 02.wmf"/>
          <p:cNvPicPr/>
          <p:nvPr/>
        </p:nvPicPr>
        <p:blipFill>
          <a:blip r:embed="rId4"/>
          <a:stretch/>
        </p:blipFill>
        <p:spPr>
          <a:xfrm>
            <a:off x="3855960" y="1471680"/>
            <a:ext cx="34354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9" descr=""/>
          <p:cNvPicPr/>
          <p:nvPr/>
        </p:nvPicPr>
        <p:blipFill>
          <a:blip r:embed="rId1"/>
          <a:stretch/>
        </p:blipFill>
        <p:spPr>
          <a:xfrm>
            <a:off x="1762200" y="4041720"/>
            <a:ext cx="7388280" cy="2578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7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Rich\Documents\eslkidsworld.com\clip art\Food &amp; Drink\Fruits (J - Pe)\Pear 35.wmf"/>
          <p:cNvPicPr/>
          <p:nvPr/>
        </p:nvPicPr>
        <p:blipFill>
          <a:blip r:embed="rId4"/>
          <a:stretch/>
        </p:blipFill>
        <p:spPr>
          <a:xfrm>
            <a:off x="4149720" y="1473120"/>
            <a:ext cx="3446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9" descr=""/>
          <p:cNvPicPr/>
          <p:nvPr/>
        </p:nvPicPr>
        <p:blipFill>
          <a:blip r:embed="rId1"/>
          <a:stretch/>
        </p:blipFill>
        <p:spPr>
          <a:xfrm>
            <a:off x="1219320" y="4059360"/>
            <a:ext cx="8315280" cy="237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1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Rich\Documents\eslkidsworld.com\clip art\Food &amp; Drink\Fruits (Pi - Z)\Pineapple 22.wmf"/>
          <p:cNvPicPr/>
          <p:nvPr/>
        </p:nvPicPr>
        <p:blipFill>
          <a:blip r:embed="rId4"/>
          <a:stretch/>
        </p:blipFill>
        <p:spPr>
          <a:xfrm rot="3982800">
            <a:off x="4686840" y="907200"/>
            <a:ext cx="1966680" cy="4133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1500120" y="605952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9" descr=""/>
          <p:cNvPicPr/>
          <p:nvPr/>
        </p:nvPicPr>
        <p:blipFill>
          <a:blip r:embed="rId1"/>
          <a:stretch/>
        </p:blipFill>
        <p:spPr>
          <a:xfrm>
            <a:off x="1700280" y="4102200"/>
            <a:ext cx="7705800" cy="19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6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Rich\Documents\eslkidsworld.com\clip art\Food &amp; Drink\Fruits (Pi - Z)\Watermelon 35.wmf"/>
          <p:cNvPicPr/>
          <p:nvPr/>
        </p:nvPicPr>
        <p:blipFill>
          <a:blip r:embed="rId4"/>
          <a:stretch/>
        </p:blipFill>
        <p:spPr>
          <a:xfrm>
            <a:off x="3162240" y="1673280"/>
            <a:ext cx="4672080" cy="2854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6729480" y="488952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415800" y="347760"/>
            <a:ext cx="79948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4" descr=""/>
          <p:cNvPicPr/>
          <p:nvPr/>
        </p:nvPicPr>
        <p:blipFill>
          <a:blip r:embed="rId1"/>
          <a:stretch/>
        </p:blipFill>
        <p:spPr>
          <a:xfrm>
            <a:off x="1768320" y="2798640"/>
            <a:ext cx="54802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Rich\Documents\eslkidsworld.com\clip art\Food &amp; Drink\Fruits (A - B)\Apple 47.wmf"/>
          <p:cNvPicPr/>
          <p:nvPr/>
        </p:nvPicPr>
        <p:blipFill>
          <a:blip r:embed="rId3"/>
          <a:stretch/>
        </p:blipFill>
        <p:spPr>
          <a:xfrm>
            <a:off x="4011480" y="1611360"/>
            <a:ext cx="3095640" cy="261468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9" descr=""/>
          <p:cNvPicPr/>
          <p:nvPr/>
        </p:nvPicPr>
        <p:blipFill>
          <a:blip r:embed="rId4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8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9" descr=""/>
          <p:cNvPicPr/>
          <p:nvPr/>
        </p:nvPicPr>
        <p:blipFill>
          <a:blip r:embed="rId3"/>
          <a:stretch/>
        </p:blipFill>
        <p:spPr>
          <a:xfrm>
            <a:off x="2139840" y="4041720"/>
            <a:ext cx="6838920" cy="257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Rich\Documents\eslkidsworld.com\clip art\Food &amp; Drink\Fruits (A - B)\Banana 03.wmf"/>
          <p:cNvPicPr/>
          <p:nvPr/>
        </p:nvPicPr>
        <p:blipFill>
          <a:blip r:embed="rId4"/>
          <a:stretch/>
        </p:blipFill>
        <p:spPr>
          <a:xfrm rot="2044200">
            <a:off x="3836880" y="2172960"/>
            <a:ext cx="3259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2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3"/>
          <a:stretch/>
        </p:blipFill>
        <p:spPr>
          <a:xfrm>
            <a:off x="1474920" y="4041720"/>
            <a:ext cx="7950240" cy="257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Users\Rich\Documents\eslkidsworld.com\clip art\Food &amp; Drink\Fruits (C - I)\Grapes 19.wmf"/>
          <p:cNvPicPr/>
          <p:nvPr/>
        </p:nvPicPr>
        <p:blipFill>
          <a:blip r:embed="rId4"/>
          <a:stretch/>
        </p:blipFill>
        <p:spPr>
          <a:xfrm>
            <a:off x="2535120" y="1432080"/>
            <a:ext cx="59263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6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9" descr=""/>
          <p:cNvPicPr/>
          <p:nvPr/>
        </p:nvPicPr>
        <p:blipFill>
          <a:blip r:embed="rId3"/>
          <a:stretch/>
        </p:blipFill>
        <p:spPr>
          <a:xfrm>
            <a:off x="1700280" y="4041720"/>
            <a:ext cx="7450200" cy="257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3681360" y="1633680"/>
            <a:ext cx="35370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70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9" descr=""/>
          <p:cNvPicPr/>
          <p:nvPr/>
        </p:nvPicPr>
        <p:blipFill>
          <a:blip r:embed="rId3"/>
          <a:stretch/>
        </p:blipFill>
        <p:spPr>
          <a:xfrm>
            <a:off x="1676520" y="4041720"/>
            <a:ext cx="7546680" cy="257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Rich\Documents\eslkidsworld.com\clip art\Food &amp; Drink\Fruits (Pi - Z)\Strawberries 11.wmf"/>
          <p:cNvPicPr/>
          <p:nvPr/>
        </p:nvPicPr>
        <p:blipFill>
          <a:blip r:embed="rId4"/>
          <a:stretch/>
        </p:blipFill>
        <p:spPr>
          <a:xfrm>
            <a:off x="3868560" y="1560600"/>
            <a:ext cx="32054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3"/>
          <a:stretch/>
        </p:blipFill>
        <p:spPr>
          <a:xfrm>
            <a:off x="1341360" y="4041720"/>
            <a:ext cx="8253360" cy="257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Rich\Documents\eslkidsworld.com\clip art\Food &amp; Drink\Fruits (J - Pe)\Kiwis.wmf"/>
          <p:cNvPicPr/>
          <p:nvPr/>
        </p:nvPicPr>
        <p:blipFill>
          <a:blip r:embed="rId4"/>
          <a:stretch/>
        </p:blipFill>
        <p:spPr>
          <a:xfrm>
            <a:off x="3475080" y="1606680"/>
            <a:ext cx="3913200" cy="28224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4290840" y="512136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9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9" descr=""/>
          <p:cNvPicPr/>
          <p:nvPr/>
        </p:nvPicPr>
        <p:blipFill>
          <a:blip r:embed="rId3"/>
          <a:stretch/>
        </p:blipFill>
        <p:spPr>
          <a:xfrm>
            <a:off x="1932120" y="4041720"/>
            <a:ext cx="7218360" cy="257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Rich\Documents\eslkidsworld.com\clip art\Food &amp; Drink\Fruits (J - Pe)\Lemon 01.wmf"/>
          <p:cNvPicPr/>
          <p:nvPr/>
        </p:nvPicPr>
        <p:blipFill>
          <a:blip r:embed="rId4"/>
          <a:stretch/>
        </p:blipFill>
        <p:spPr>
          <a:xfrm>
            <a:off x="3454560" y="1601640"/>
            <a:ext cx="36288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9" descr=""/>
          <p:cNvPicPr/>
          <p:nvPr/>
        </p:nvPicPr>
        <p:blipFill>
          <a:blip r:embed="rId1"/>
          <a:stretch/>
        </p:blipFill>
        <p:spPr>
          <a:xfrm>
            <a:off x="2554200" y="4041720"/>
            <a:ext cx="6504120" cy="2578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4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Rich\Documents\eslkidsworld.com\clip art\Food &amp; Drink\Fruits (J - Pe)\Lime 07.wmf"/>
          <p:cNvPicPr/>
          <p:nvPr/>
        </p:nvPicPr>
        <p:blipFill>
          <a:blip r:embed="rId4"/>
          <a:stretch/>
        </p:blipFill>
        <p:spPr>
          <a:xfrm>
            <a:off x="3730680" y="1638360"/>
            <a:ext cx="4084560" cy="2489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5522760" y="514512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r.eash</dc:creator>
  <dc:description/>
  <dc:language>en-US</dc:language>
  <cp:lastModifiedBy>peter burrows</cp:lastModifiedBy>
  <dcterms:modified xsi:type="dcterms:W3CDTF">2017-04-26T04:24:04Z</dcterms:modified>
  <cp:revision>264</cp:revision>
  <dc:subject/>
  <dc:title>Slide 1</dc:title>
</cp:coreProperties>
</file>